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A4B-BB95-4FB2-8E24-A76330EB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446-1A33-4975-A13B-1D36B5CC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62A-0085-4498-A6DB-2A52FCB1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6A9-E5A6-4C0B-808C-962F8413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C19-4D04-4EFA-A12E-BCFB4A19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52F-0A18-43AE-9B46-D950AC5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3F2B-F54F-4FE2-B661-1210F59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5157-926F-4EC6-9527-B1311BE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61E-106E-4414-8F04-A361D39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19C0-5823-4F4B-99EC-DDED002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EBC-BF47-46B4-AA1B-BA2F78C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439-F482-4182-A85D-BAFD823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1525-811E-428F-83B3-E88B897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E85C-3A8B-4E9C-980F-A7EB8E5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7367-DBD0-4956-A996-75F32A41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AC95-C4C9-416A-9F01-45885F11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C914-49F5-4295-B680-D18ABB10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7AB-889D-47A6-9D12-B846942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154-83DC-4F39-9590-D6465407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D64-A655-41BF-8A92-E92E894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093-4A0E-4DBA-BC00-5AD6A14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A28-E440-4A1E-BCD4-E9C9136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B94-8C7E-44D6-B0A8-99CB106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F54-9C5B-417A-933E-5E52CEE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BF4-357B-41F6-80B8-39D2CC3DFF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A5E7-3945-4F27-9192-D70B56FD96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ZFMmNqCvbc&amp;NR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Ea8j98eR9g&amp;feature=related" TargetMode="External"/><Relationship Id="rId2" Type="http://schemas.openxmlformats.org/officeDocument/2006/relationships/hyperlink" Target="http://www.youtube.com/watch?v=LrZ3Iw5723c&amp;feature=related" TargetMode="Externa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UG9ur5Azko&amp;NR=1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              </a:t>
            </a:r>
            <a:r>
              <a:rPr b="0" lang="en-US" sz="2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Kids watch closel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640" y="1828800"/>
            <a:ext cx="384660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aring a safety belt increases your chance of surviving a crash by 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40%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f everybody in New Zealand wore safety belts all the time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around 35 lives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250-300 injurie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-millions of dollar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could be saved every yea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thal Flying Object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ecured items in your car can be lethal in a sudden stop or cras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ces behind any object can become much greater than when the object is still. This can be related greatly to Newton's first law of motion (Inerti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are not buckled into the car need to be placed in the bo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on wagons are best to be fitted with a cargo barrier, or have a cargo net secured to cargo clips placed over the objec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Julie knew her killer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Irish Seatbelt 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19814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853080" cy="539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92440" y="473040"/>
            <a:ext cx="3833640" cy="539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90640" y="473040"/>
            <a:ext cx="3838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129040" cy="3124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298600" cy="3205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05320" y="2133720"/>
            <a:ext cx="2066760" cy="3200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886200" cy="348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 crash, if you're in the front and you're not wearing a safety belt, you may be thrown into the windscreen or onto the roa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the back seat, you might be thrown onto the front seats, hit the roof, or smash your face into the back of the people sitting in fro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What might happe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504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Safety belts are designed for adult bodi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til a child can safely and comfortably wear an adult safety belt (ie, the belt crosses their pelvis, not their stomach), they must use an approved child restraint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00400" cy="2376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05740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1981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fant restraint: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rth to 9 k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p to 6 month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Convertible (baby to child) restraint: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rth to 18 k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p to 4 yea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2096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20968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7600" y="1981080"/>
            <a:ext cx="510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ont-facing child restraint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-18 k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onths to 4 years.</a:t>
            </a:r>
            <a:r>
              <a:rPr b="0" lang="en-US" sz="2800" spc="-1" strike="noStrike">
                <a:solidFill>
                  <a:srgbClr val="ff0000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oster seat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-26 k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years to 7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Child harness: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4-32 k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-approx. 4 to 7 yea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rivers and passengers 15 years and ove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must wear a safety belt if there's one availabl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73484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174312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2971800" cy="304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3009960" cy="3048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y they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el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afety belts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the driver and passengers being thrown from the car in a crash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y also allow the wearer to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‘ride out’ the crash,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moving in the same direction and at the same time as the car, minimizing the chance of collision with the interior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earing a safety belt can halve the risk of being injured or killed in an crash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3581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lt Up!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Techn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ebbing elastic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to stretch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tractor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the wearer with a good fit, and keep the belt out of the way when it’s not in u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lock automatically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tensione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evice that removes any slack from a seat belt before it is ‘loaded’ with the force of the wearer’s weight during a cra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oad limit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y that works to ensure larger and heavier occupants get sufficient protection from the seat belt in a crash. Works in conjunction with the pretensioner to either ‘pay out’ more of the belt webbing, or slightly alter the way the retractor work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07:34:42Z</dcterms:created>
  <dc:creator>Educating NZ</dc:creator>
  <dc:description/>
  <dc:language>en-US</dc:language>
  <cp:lastModifiedBy>Educating NZ</cp:lastModifiedBy>
  <dcterms:modified xsi:type="dcterms:W3CDTF">2008-06-23T10:31:32Z</dcterms:modified>
  <cp:revision>13</cp:revision>
  <dc:subject/>
  <dc:title>Belt Up!</dc:title>
</cp:coreProperties>
</file>